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44B-1D4A-4804-9CCC-B55E04E7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658-7070-41EE-8CCD-6ACC71A1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D38-91EB-476D-B387-E2017493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608-0C0D-4DBA-BFF9-48E6326C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76A-1CAC-4201-8539-1BFE5FD3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EFAB-191B-40F5-87EF-DEFB23DC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F3E-1B34-49B0-ADA5-B9DFF0C5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451-0C08-4496-9DB8-93BA3BB8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FA8-3FB8-41F1-A7EB-4A6FBA90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75C-B06F-4E0F-B98E-6FEC4E5D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4DB6-8244-464B-806B-36E0342C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058-AAD6-45F1-BC13-777EB0BB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BD42-95AD-44DE-913A-362D54BE1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5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6.wmf"/><Relationship Id="rId4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0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ythagorea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length of the right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2438280"/>
            <a:ext cx="2104920" cy="2859120"/>
            <a:chOff x="457200" y="2438280"/>
            <a:chExt cx="2104920" cy="2859120"/>
          </a:xfrm>
        </p:grpSpPr>
        <p:graphicFrame>
          <p:nvGraphicFramePr>
            <p:cNvPr id="45" name=""/>
            <p:cNvGraphicFramePr/>
            <p:nvPr/>
          </p:nvGraphicFramePr>
          <p:xfrm>
            <a:off x="457200" y="3352680"/>
            <a:ext cx="1166760" cy="42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352680"/>
                      <a:ext cx="116676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" name=""/>
            <p:cNvSpPr/>
            <p:nvPr/>
          </p:nvSpPr>
          <p:spPr>
            <a:xfrm flipH="1">
              <a:off x="761400" y="2438280"/>
              <a:ext cx="1447560" cy="2438640"/>
            </a:xfrm>
            <a:prstGeom prst="rtTriangl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" name=""/>
            <p:cNvGraphicFramePr/>
            <p:nvPr/>
          </p:nvGraphicFramePr>
          <p:xfrm>
            <a:off x="1081080" y="4876920"/>
            <a:ext cx="985680" cy="42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81080" y="4876920"/>
                      <a:ext cx="98568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2209680" y="3505320"/>
            <a:ext cx="352440" cy="514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9680" y="3505320"/>
                      <a:ext cx="352440" cy="51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85800" y="2514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" name=""/>
          <p:cNvGraphicFramePr/>
          <p:nvPr/>
        </p:nvGraphicFramePr>
        <p:xfrm>
          <a:off x="4114800" y="2209680"/>
          <a:ext cx="2575080" cy="65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2209680"/>
                    <a:ext cx="257508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114800" y="2895480"/>
          <a:ext cx="278748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2895480"/>
                    <a:ext cx="278748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114800" y="3505320"/>
          <a:ext cx="2962440" cy="655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3505320"/>
                    <a:ext cx="296244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9880" y="4038480"/>
          <a:ext cx="997200" cy="519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9880" y="4038480"/>
                    <a:ext cx="997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095880" y="4038480"/>
          <a:ext cx="997200" cy="519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5880" y="4038480"/>
                    <a:ext cx="997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962520" y="45720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029200" y="4495680"/>
          <a:ext cx="1920960" cy="655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29200" y="4495680"/>
                    <a:ext cx="1920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952880" y="5105520"/>
          <a:ext cx="2095560" cy="738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52880" y="5105520"/>
                    <a:ext cx="209556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162920" y="5257800"/>
          <a:ext cx="1042920" cy="519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162920" y="5257800"/>
                    <a:ext cx="1042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ythagorea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length of the right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052960" y="2286000"/>
          <a:ext cx="257508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2960" y="2286000"/>
                    <a:ext cx="257508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180040" y="2971800"/>
          <a:ext cx="2531880" cy="65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0040" y="2971800"/>
                    <a:ext cx="253188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354640" y="3581280"/>
          <a:ext cx="2357280" cy="65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54640" y="3581280"/>
                    <a:ext cx="235728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715000" y="4267080"/>
          <a:ext cx="1697040" cy="65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267080"/>
                    <a:ext cx="169704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391000" y="4876920"/>
          <a:ext cx="1828800" cy="73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1000" y="4876920"/>
                    <a:ext cx="182880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" name=""/>
          <p:cNvGrpSpPr/>
          <p:nvPr/>
        </p:nvGrpSpPr>
        <p:grpSpPr>
          <a:xfrm>
            <a:off x="228240" y="2438280"/>
            <a:ext cx="4091400" cy="2022480"/>
            <a:chOff x="228240" y="2438280"/>
            <a:chExt cx="4091400" cy="2022480"/>
          </a:xfrm>
        </p:grpSpPr>
        <p:sp>
          <p:nvSpPr>
            <p:cNvPr id="84" name=""/>
            <p:cNvSpPr/>
            <p:nvPr/>
          </p:nvSpPr>
          <p:spPr>
            <a:xfrm flipH="1">
              <a:off x="227880" y="2438280"/>
              <a:ext cx="2895480" cy="1524240"/>
            </a:xfrm>
            <a:prstGeom prst="rtTriangl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1219320" y="2819520"/>
            <a:ext cx="387360" cy="431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19320" y="2819520"/>
                      <a:ext cx="38736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"/>
            <p:cNvGraphicFramePr/>
            <p:nvPr/>
          </p:nvGraphicFramePr>
          <p:xfrm>
            <a:off x="1055520" y="3897360"/>
            <a:ext cx="1173240" cy="563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55520" y="3897360"/>
                      <a:ext cx="117324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3102120" y="2994120"/>
            <a:ext cx="1217520" cy="519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02120" y="2994120"/>
                      <a:ext cx="121752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457200" y="243828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ythagorea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length of the right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920960" y="2414520"/>
          <a:ext cx="257472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0960" y="2414520"/>
                    <a:ext cx="25747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2971800"/>
          <a:ext cx="4190760" cy="9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419076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3733920"/>
          <a:ext cx="3186000" cy="65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733920"/>
                    <a:ext cx="31860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0" y="4800600"/>
          <a:ext cx="222552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800600"/>
                    <a:ext cx="22255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5554800" y="1752480"/>
            <a:ext cx="3589200" cy="2576520"/>
            <a:chOff x="5554800" y="1752480"/>
            <a:chExt cx="3589200" cy="2576520"/>
          </a:xfrm>
        </p:grpSpPr>
        <p:sp>
          <p:nvSpPr>
            <p:cNvPr id="103" name=""/>
            <p:cNvSpPr/>
            <p:nvPr/>
          </p:nvSpPr>
          <p:spPr>
            <a:xfrm flipH="1">
              <a:off x="5554800" y="1752480"/>
              <a:ext cx="3124080" cy="2057400"/>
            </a:xfrm>
            <a:prstGeom prst="rtTriangl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6469200" y="2286000"/>
            <a:ext cx="653760" cy="519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69200" y="2286000"/>
                      <a:ext cx="65376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8713800" y="2557440"/>
            <a:ext cx="430200" cy="432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713800" y="2557440"/>
                      <a:ext cx="43020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6545160" y="3809880"/>
            <a:ext cx="1389240" cy="519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45160" y="3809880"/>
                      <a:ext cx="138924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5630760" y="1905120"/>
              <a:ext cx="762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1" name=""/>
          <p:cNvGraphicFramePr/>
          <p:nvPr/>
        </p:nvGraphicFramePr>
        <p:xfrm>
          <a:off x="3200400" y="3733920"/>
          <a:ext cx="2571840" cy="65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00400" y="3733920"/>
                    <a:ext cx="257184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676520" y="4343400"/>
          <a:ext cx="1476360" cy="519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6520" y="4343400"/>
                    <a:ext cx="1476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267080" y="4343400"/>
          <a:ext cx="1476360" cy="519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67080" y="4343400"/>
                    <a:ext cx="1476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80880" y="4876920"/>
            <a:ext cx="511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09680" y="4952880"/>
          <a:ext cx="2270160" cy="519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09680" y="4952880"/>
                    <a:ext cx="22701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33520" y="5334120"/>
          <a:ext cx="604800" cy="652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3520" y="5334120"/>
                    <a:ext cx="60480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90720" y="5486400"/>
          <a:ext cx="1263600" cy="515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990720" y="5486400"/>
                    <a:ext cx="12636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209680" y="5486400"/>
          <a:ext cx="2265480" cy="515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209680" y="5486400"/>
                    <a:ext cx="22654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85800" y="5867280"/>
          <a:ext cx="3795840" cy="735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85800" y="5867280"/>
                    <a:ext cx="379584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838080" y="6019920"/>
          <a:ext cx="40176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38080" y="6019920"/>
                    <a:ext cx="4017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86000" y="6019920"/>
          <a:ext cx="401760" cy="4032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286000" y="6019920"/>
                    <a:ext cx="4017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143000" y="5943600"/>
          <a:ext cx="893880" cy="4842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143000" y="5943600"/>
                    <a:ext cx="8938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66880" y="5943600"/>
          <a:ext cx="892440" cy="4842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66880" y="5943600"/>
                    <a:ext cx="8924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80880" y="6373800"/>
          <a:ext cx="1660680" cy="4842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80880" y="6373800"/>
                    <a:ext cx="16606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394000" y="6373800"/>
          <a:ext cx="1373040" cy="4842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394000" y="6373800"/>
                    <a:ext cx="1373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629400" y="4487760"/>
          <a:ext cx="1828800" cy="6447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629400" y="4487760"/>
                    <a:ext cx="182880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791320" y="5176800"/>
          <a:ext cx="3047760" cy="6494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791320" y="5176800"/>
                    <a:ext cx="30477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ythagorea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termine whether the given lengths are sides of a right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2286000"/>
          <a:ext cx="2836800" cy="6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0"/>
                    <a:ext cx="28368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038480" y="2057400"/>
          <a:ext cx="2576520" cy="65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057400"/>
                    <a:ext cx="25765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92440" y="2743200"/>
          <a:ext cx="3011400" cy="65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92440" y="2743200"/>
                    <a:ext cx="30114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462480" y="3497400"/>
          <a:ext cx="69192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62480" y="3497400"/>
                    <a:ext cx="6919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114800" y="3505320"/>
          <a:ext cx="121428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3505320"/>
                    <a:ext cx="12142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257800" y="3505320"/>
          <a:ext cx="134460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7800" y="3505320"/>
                    <a:ext cx="13446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419720" y="4114800"/>
          <a:ext cx="2120760" cy="48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19720" y="4114800"/>
                    <a:ext cx="21207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587840" y="4648320"/>
          <a:ext cx="1187640" cy="644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87840" y="4648320"/>
                    <a:ext cx="11876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ythagorea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termine whether the given lengths are sides of a right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39800" y="2286000"/>
          <a:ext cx="2270160" cy="6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2286000"/>
                    <a:ext cx="227016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038480" y="2057400"/>
          <a:ext cx="2576520" cy="65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057400"/>
                    <a:ext cx="25765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038480" y="2743200"/>
          <a:ext cx="2575080" cy="65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2743200"/>
                    <a:ext cx="257508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191120" y="3505320"/>
          <a:ext cx="43020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3505320"/>
                    <a:ext cx="4302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546440" y="3505320"/>
          <a:ext cx="95904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46440" y="3505320"/>
                    <a:ext cx="9590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616720" y="3505320"/>
          <a:ext cx="108396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16720" y="3505320"/>
                    <a:ext cx="10839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952880" y="4114800"/>
          <a:ext cx="1586160" cy="48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52880" y="4114800"/>
                    <a:ext cx="15861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181480" y="4724280"/>
          <a:ext cx="1019160" cy="644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81480" y="4724280"/>
                    <a:ext cx="10191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ythagorea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termine whether the given lengths are sides of a right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80960" y="2286000"/>
          <a:ext cx="2787840" cy="6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2286000"/>
                    <a:ext cx="27878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038480" y="2057400"/>
          <a:ext cx="2576520" cy="65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057400"/>
                    <a:ext cx="25765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733920" y="2743200"/>
          <a:ext cx="3054240" cy="65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2743200"/>
                    <a:ext cx="305424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505320" y="3497400"/>
          <a:ext cx="60480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497400"/>
                    <a:ext cx="6048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038480" y="3505320"/>
          <a:ext cx="147636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3505320"/>
                    <a:ext cx="14763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486400" y="3505320"/>
          <a:ext cx="156672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566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562640" y="4114800"/>
          <a:ext cx="2446200" cy="48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62640" y="4114800"/>
                    <a:ext cx="24462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105520" y="4648320"/>
          <a:ext cx="1187280" cy="644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05520" y="4648320"/>
                    <a:ext cx="118728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ythagorea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5-03-25T17:16:53Z</dcterms:modified>
  <cp:revision>74</cp:revision>
  <dc:subject/>
  <dc:title>No Slide Title</dc:title>
</cp:coreProperties>
</file>